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D3DE-FB9F-4CB6-89AF-C07A7E48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6440-30F0-4889-85B7-5E6BD65B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CFCF-A460-45EC-A0E0-68DBAE8C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0F59-E7C8-4DF6-AD5A-CE72D637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EE1-9D65-44A5-BCA1-02D0C2E6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B8F1-9151-47F7-8BD8-8DC549DC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C2CB-78BA-42EA-BAD8-B5A5C717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96A-E6B6-4FB9-8040-FBBF2FCE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EC4-3950-444F-821B-539598EE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89BF-1DAE-4D3C-BA7A-454B21D8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DBE-4DCC-4C64-A20C-35A2E5AD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16C9-3709-4DD9-8371-6232B9B0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D64D-7123-4377-BF3A-CF4697A2E1AE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Calibri"/>
              </a:rPr>
              <a:t>تعقیب نمازمغرب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a-IR" sz="4400" spc="-1" strike="noStrike">
                <a:solidFill>
                  <a:srgbClr val="ffc000"/>
                </a:solidFill>
                <a:latin typeface="Calibri"/>
              </a:rPr>
              <a:t> بِسم الله الرَحمن الرَحیم </a:t>
            </a:r>
            <a:br>
              <a:rPr sz="4400"/>
            </a:b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اَللّهُمَّ اِنّي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اَسئَلُُکَ موجِباتِ رَحمَتِک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وَ عَزآئِمَ مَغفِرَتِک وَالنَجاةَ مِن النّارِ وَ مِن کلِّ بَلیَّة وَالفَوزَ بِالجَنَّةِ وَالرَّضوانَ في دارِالسَّلامِ وَ جِوارِنَبیِّکَ مُحَمَّدعَلَیهِ وَآلِهِ السَّلام اَللّهُمَّ مَا 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بِنا مِن نِعمَة فَمِنک لا اِلهَ اِلاّ اَنت 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اَستَغفِرُکَ</a:t>
            </a:r>
            <a:r>
              <a:rPr b="1" lang="fa-I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وَ اتوبُ اِلَیک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8:55:53Z</dcterms:created>
  <dc:creator>Hadi Najar</dc:creator>
  <dc:description/>
  <dc:language>en-US</dc:language>
  <cp:lastModifiedBy>Seyed Mohammad Kazem Motallebi</cp:lastModifiedBy>
  <dcterms:modified xsi:type="dcterms:W3CDTF">2008-02-07T05:42:13Z</dcterms:modified>
  <cp:revision>10</cp:revision>
  <dc:subject/>
  <dc:title>Namaz Maghrib</dc:title>
</cp:coreProperties>
</file>